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gif" ContentType="image/gif"/>
  <Override PartName="/ppt/media/image17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286-A782-4FFE-BB81-713C0361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BD6-1C61-455A-8744-995FB9CD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709-D93D-4B91-9DDE-0AA88681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1B3-E996-49C6-BD65-EF0BA845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0E1A-D827-4544-A1F5-59B0659B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75C-8E33-46F8-8CCF-10E1C2F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6595-F653-4A09-936E-378CE1D6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362B-32F0-4DF9-8C19-D76C02BD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B6CE-7C99-49D3-BA14-59698B78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CCDE-EC8C-49F2-A8A1-13D621C5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9FCF-F8B5-4BCA-B467-9C51DCF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2F5-3288-4F90-8899-35B29A50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6A33-74F4-43FD-B184-1F68C3F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39B-3AEB-4150-AF40-D33B2AB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DD52-BE7C-49F4-A7EE-4AAB7E9C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2A54-DFF9-41EB-8557-F3C96B79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A68E-F8B2-41EE-A76F-5E058936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2BF8-F8A0-491C-AC7F-57C0A0D1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0083-EB66-4F84-B6E2-0535537C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EA34-F38D-4602-B1D0-27113903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B9C8-D25F-41C2-A647-155C8905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246D-A316-4661-B125-C47F8BF4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05C-CD53-49B2-B5E7-B6BFCC74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EF31-2BC3-44B1-83C1-986EB73C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F6D6-C50F-478D-94C6-1FC12FBF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963E-43F2-4953-85E1-F0DCE872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FED23-9520-424A-9261-219C94D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0A6A-D7B0-480F-A890-6D8ADC6A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91F5-1941-447E-88B8-63B12CD1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8B74-841D-427B-AE16-7EFA9031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ED157-FF04-4453-BBD7-EB1CD2D1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CC2E-8477-4EFB-92EB-3482264F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20E5-866C-48ED-AB45-5734EFC9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C07-13B2-454A-8C07-9A41E8E2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BE5B-EEA0-45AA-9B61-61927E1D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CD2F-D446-4A73-806D-398B9A43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EBA6-EDD5-4980-A532-4625C9B1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70AA-B3CC-4050-BCE4-F31B4D0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35D4-0DB8-40C0-A1BD-2FD74425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464B2-F840-4505-AD4B-3E125B5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1EB8-811A-42EB-ADED-6F2D2AF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DEF80-F1BD-4529-A7B9-A29553B6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C76D-E749-4C1C-9EB8-C62FD602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B4B-61A7-499E-850A-25F3E1D9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C3F-E4FC-413C-9FB8-AD41CF1E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D2C-088F-4544-B6BE-58D29010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69F-FA93-403D-8BBB-6A172E8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00D-0903-4AD4-A063-45DCE99A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4C1-8D99-48AC-AF17-E211D60CD4E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3D04-8CE7-432E-8E21-867C8294686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68F1-A927-453F-8BF2-597CB89DFC4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D089-F025-4F23-B860-200085977F6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1"/>
          <a:stretch/>
        </p:blipFill>
        <p:spPr>
          <a:xfrm>
            <a:off x="414360" y="1042920"/>
            <a:ext cx="8242200" cy="2365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andon John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haniel John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onny Gr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6" name="Picture 3" descr="C:\Users\Johnson Family\AppData\Local\Microsoft\Windows\Temporary Internet Files\Content.IE5\ZH9BSLII\MM900283178[1].gif"/>
          <p:cNvPicPr/>
          <p:nvPr/>
        </p:nvPicPr>
        <p:blipFill>
          <a:blip r:embed="rId2"/>
          <a:stretch/>
        </p:blipFill>
        <p:spPr>
          <a:xfrm>
            <a:off x="3809880" y="5181480"/>
            <a:ext cx="112392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Winning Primar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ter Signatur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me of Ballo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cumbent Advanta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phomore Sur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rease in votes second time after being electe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ue to Individual Emphas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3" name="Picture 2" descr="http://static.ddmcdn.com/gif/primary-2.jpg"/>
          <p:cNvPicPr/>
          <p:nvPr/>
        </p:nvPicPr>
        <p:blipFill>
          <a:blip r:embed="rId2"/>
          <a:stretch/>
        </p:blipFill>
        <p:spPr>
          <a:xfrm>
            <a:off x="4800600" y="220968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Johnson Family\AppData\Local\Microsoft\Windows\Temporary Internet Files\Content.IE5\0B0427GR\MM900173989[1].gif"/>
          <p:cNvPicPr/>
          <p:nvPr/>
        </p:nvPicPr>
        <p:blipFill>
          <a:blip r:embed="rId3"/>
          <a:stretch/>
        </p:blipFill>
        <p:spPr>
          <a:xfrm>
            <a:off x="6324480" y="4876920"/>
            <a:ext cx="914400" cy="1247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ying in Offic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nefit St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rve of Committee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legate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ust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8" name="Picture 2" descr="File:Bruce Braley official 110th Congress photo portrait.jpg"/>
          <p:cNvPicPr/>
          <p:nvPr/>
        </p:nvPicPr>
        <p:blipFill>
          <a:blip r:embed="rId2"/>
          <a:stretch/>
        </p:blipFill>
        <p:spPr>
          <a:xfrm>
            <a:off x="4648320" y="1295280"/>
            <a:ext cx="1733400" cy="2608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File:David Loebsack official 110th Congress photo portrait.jpg"/>
          <p:cNvPicPr/>
          <p:nvPr/>
        </p:nvPicPr>
        <p:blipFill>
          <a:blip r:embed="rId3"/>
          <a:stretch/>
        </p:blipFill>
        <p:spPr>
          <a:xfrm>
            <a:off x="6858000" y="1295280"/>
            <a:ext cx="1733400" cy="260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File:Tom Latham, official photo portrait, color.jpg"/>
          <p:cNvPicPr/>
          <p:nvPr/>
        </p:nvPicPr>
        <p:blipFill>
          <a:blip r:embed="rId4"/>
          <a:stretch/>
        </p:blipFill>
        <p:spPr>
          <a:xfrm>
            <a:off x="4648320" y="4038480"/>
            <a:ext cx="1857240" cy="265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File:Steve King, official Congressional photo portrait.jpg"/>
          <p:cNvPicPr/>
          <p:nvPr/>
        </p:nvPicPr>
        <p:blipFill>
          <a:blip r:embed="rId5"/>
          <a:stretch/>
        </p:blipFill>
        <p:spPr>
          <a:xfrm>
            <a:off x="6858000" y="4114800"/>
            <a:ext cx="1905120" cy="2563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6840" y="1599840"/>
            <a:ext cx="48769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 Ste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m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le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cess different from Europ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dividual Appro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litical Party Appro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9" name="Picture 2" descr="http://1.bp.blogspot.com/_tAjDC54H3jw/TAym8fd1EkI/AAAAAAAAAis/d16uwE4GuIA/s1600/PACE1.jpg"/>
          <p:cNvPicPr/>
          <p:nvPr/>
        </p:nvPicPr>
        <p:blipFill>
          <a:blip r:embed="rId2"/>
          <a:stretch/>
        </p:blipFill>
        <p:spPr>
          <a:xfrm>
            <a:off x="5486400" y="4572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www.euromove.org.uk/fileadmin/files_euromove/downloads/Political_Groups_EP_02.jpg"/>
          <p:cNvPicPr/>
          <p:nvPr/>
        </p:nvPicPr>
        <p:blipFill>
          <a:blip r:embed="rId3"/>
          <a:stretch/>
        </p:blipFill>
        <p:spPr>
          <a:xfrm>
            <a:off x="4724280" y="1371600"/>
            <a:ext cx="434520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IDENT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GRESSIONAL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ze/Turno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arge (50-60%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Yea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mpetitivenes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re Competitiv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arely Large Victo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nce 1932 GOP wins Election 44.5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5080" y="2361960"/>
            <a:ext cx="43466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ze/Turno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ff-Year Small (36%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Years House of Rep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Years for Senat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mpetitivenes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ss Competitiv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umbent Advantage (90%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nce 1932 GOP wins House 17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IDENTIA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GRESSION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Accounta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gurehead of Gov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l Credit or All Bl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oth Political and Economic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sponsi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ation as a who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enefit Nation NOT commun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4720" y="2361960"/>
            <a:ext cx="44989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Accounta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re than one in Offic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asy to Blame Othe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dividuality (coattail declin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sponsi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ate/Loc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ake Responsibility for Local and State Gra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“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Presidential Caliber”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ok Appeal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dia Friend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ersona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me Recogni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adership Experi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4" name="Picture 4" descr="http://www.gannett-cdn.com/media/USATODAY/USATODAY/2012/09/20/KENNEDY_NIXON_DEBATE-4_3_r536_c534.JPG?1b79b3da202957124496e3768cfb7b67cdb10c81"/>
          <p:cNvPicPr/>
          <p:nvPr/>
        </p:nvPicPr>
        <p:blipFill>
          <a:blip r:embed="rId2"/>
          <a:stretch/>
        </p:blipFill>
        <p:spPr>
          <a:xfrm>
            <a:off x="4800600" y="1905120"/>
            <a:ext cx="3973680" cy="299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Announce Candidacy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ech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ter Intera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ffing/Organiz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rge Staff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me must be Pai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lunteers for Fund-Rais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cal Campaig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1055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8" name="Picture 2" descr="https://encrypted-tbn1.gstatic.com/images?q=tbn:ANd9GcRL11N-lYPE1_NVZFZHajxSYLcn0Hk45svns75G2hTAbPBy9oZKhA"/>
          <p:cNvPicPr/>
          <p:nvPr/>
        </p:nvPicPr>
        <p:blipFill>
          <a:blip r:embed="rId2"/>
          <a:stretch/>
        </p:blipFill>
        <p:spPr>
          <a:xfrm>
            <a:off x="5181480" y="1981080"/>
            <a:ext cx="3714840" cy="2476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Users\Johnson Family\AppData\Local\Microsoft\Windows\Temporary Internet Files\Content.IE5\0B0427GR\MM900315822[1].gif"/>
          <p:cNvPicPr/>
          <p:nvPr/>
        </p:nvPicPr>
        <p:blipFill>
          <a:blip r:embed="rId3"/>
          <a:stretch/>
        </p:blipFill>
        <p:spPr>
          <a:xfrm>
            <a:off x="6629400" y="47242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-36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ime/Mone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ime=Mone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mits on amount of $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Strategy/Them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tuation (Incumbent/Challenger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im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dividual Reco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wing Sta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rget Vo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3" name="irc_mi" descr="http://www.inc.com/uploaded_files/image/091312_Cash_Campaign_POP_IN1012BTS01_20361.jpg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-36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Who and How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Constitution Specifi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limited # of Ter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te Separated by Distri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lapportionment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equal Representatio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xas 1962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errymandering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litical Party Favor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alifornia 1960’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964 Supreme Cou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draw Every 10 Yea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86240" y="3123720"/>
            <a:ext cx="19810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7" name="Picture 2" descr="http://upload.wikimedia.org/wikipedia/commons/thumb/9/96/The_Gerry-Mander_Edit.png/733px-The_Gerry-Mander_Edit.png"/>
          <p:cNvPicPr/>
          <p:nvPr/>
        </p:nvPicPr>
        <p:blipFill>
          <a:blip r:embed="rId2"/>
          <a:stretch/>
        </p:blipFill>
        <p:spPr>
          <a:xfrm>
            <a:off x="5943600" y="1447920"/>
            <a:ext cx="2859120" cy="2993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s://encrypted-tbn2.gstatic.com/images?q=tbn:ANd9GcQMVWX5S4WOaaSI11e8ATvRucToAObxcVqMDltwpmVaaDk_vtOk"/>
          <p:cNvPicPr/>
          <p:nvPr/>
        </p:nvPicPr>
        <p:blipFill>
          <a:blip r:embed="rId3"/>
          <a:stretch/>
        </p:blipFill>
        <p:spPr>
          <a:xfrm>
            <a:off x="6095880" y="4572000"/>
            <a:ext cx="2743200" cy="20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ile:Iowa Congressional Districts with Counties, 2012-2022.svg"/>
          <p:cNvPicPr/>
          <p:nvPr/>
        </p:nvPicPr>
        <p:blipFill>
          <a:blip r:embed="rId1"/>
          <a:stretch/>
        </p:blipFill>
        <p:spPr>
          <a:xfrm>
            <a:off x="1371600" y="990720"/>
            <a:ext cx="7086600" cy="547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49:33Z</dcterms:created>
  <dc:creator>johnson104671</dc:creator>
  <dc:description/>
  <dc:language>en-US</dc:language>
  <cp:lastModifiedBy>lullmannj</cp:lastModifiedBy>
  <dcterms:modified xsi:type="dcterms:W3CDTF">2013-03-28T11:57:05Z</dcterms:modified>
  <cp:revision>23</cp:revision>
  <dc:subject/>
  <dc:title>Presidential versus Congressional Campaigns</dc:title>
</cp:coreProperties>
</file>